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012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9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463C1-1068-49F8-B63A-F34CCF8A5A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C70-54F3-4AD4-B17B-D6E0DBA7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327-644D-4110-8E22-85871A88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3EE-7CE5-4656-99FD-423F607E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400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472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400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472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704-A4CD-423D-947A-D7A8203B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B2A-886F-477A-8EC5-49259CD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A83-5034-4377-84A2-97FC04B8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534-3DD2-4C96-8CD3-C5ED675D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A1E-24E8-4774-80CB-BB69A620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18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5C5-604A-4B5D-B3B9-6DC7CE28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CDA-ED78-41C4-8131-E5CE5DC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85F-0DA7-48ED-A03B-78D2DEEC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8F4-5645-4D9F-A7E0-00A5D2AC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n Wi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FUnderground 2008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29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49490-E50C-4A49-A85C-F349D1F21E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6819840"/>
            <a:ext cx="2838600" cy="72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9920" y="447840"/>
            <a:ext cx="907092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Practical Refactor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29920" y="2285640"/>
            <a:ext cx="907092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FUndergrou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an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v 16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1:00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326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ractical Re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610320" y="2057400"/>
            <a:ext cx="32194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2057400"/>
            <a:ext cx="594360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54403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f you deal with an existing code base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f you would like to rid yourself of confusing code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f you work on applications with a long lifespa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Then Practical Refactoring Is For you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Besides, I've got lots of code samples... aren't those fu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Who is Dan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59436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ColdFusion Programmer since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n Managing Board of TACF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Blog @ nodans.com, dzon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incipal Partner of DataCurl L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esenter at 360|Flex, CF.Objective(), User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Surfer, Snowboarder, Volleyball play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oor Typist, Poorer Guitar Playe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great steering wheel player... trust me!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3526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How do you refacto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527040"/>
                <a:tab algn="l" pos="984240"/>
                <a:tab algn="l" pos="1441440"/>
                <a:tab algn="l" pos="1898640"/>
                <a:tab algn="l" pos="2355840"/>
                <a:tab algn="l" pos="2813040"/>
                <a:tab algn="l" pos="3270240"/>
                <a:tab algn="l" pos="3727440"/>
                <a:tab algn="l" pos="4184640"/>
                <a:tab algn="l" pos="4641840"/>
                <a:tab algn="l" pos="5099040"/>
                <a:tab algn="l" pos="5556240"/>
                <a:tab algn="l" pos="6013440"/>
                <a:tab algn="l" pos="6470640"/>
                <a:tab algn="l" pos="6927840"/>
                <a:tab algn="l" pos="7385040"/>
                <a:tab algn="l" pos="7842240"/>
                <a:tab algn="l" pos="8299440"/>
                <a:tab algn="l" pos="8756640"/>
                <a:tab algn="l" pos="921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factor in small swe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527040"/>
                <a:tab algn="l" pos="984240"/>
                <a:tab algn="l" pos="1441440"/>
                <a:tab algn="l" pos="1898640"/>
                <a:tab algn="l" pos="2355840"/>
                <a:tab algn="l" pos="2813040"/>
                <a:tab algn="l" pos="3270240"/>
                <a:tab algn="l" pos="3727440"/>
                <a:tab algn="l" pos="4184640"/>
                <a:tab algn="l" pos="4641840"/>
                <a:tab algn="l" pos="5099040"/>
                <a:tab algn="l" pos="5556240"/>
                <a:tab algn="l" pos="6013440"/>
                <a:tab algn="l" pos="6470640"/>
                <a:tab algn="l" pos="6927840"/>
                <a:tab algn="l" pos="7385040"/>
                <a:tab algn="l" pos="7842240"/>
                <a:tab algn="l" pos="8299440"/>
                <a:tab algn="l" pos="8756640"/>
                <a:tab algn="l" pos="921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uild some sort of a test, before you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527040"/>
                <a:tab algn="l" pos="984240"/>
                <a:tab algn="l" pos="1441440"/>
                <a:tab algn="l" pos="1898640"/>
                <a:tab algn="l" pos="2355840"/>
                <a:tab algn="l" pos="2813040"/>
                <a:tab algn="l" pos="3270240"/>
                <a:tab algn="l" pos="3727440"/>
                <a:tab algn="l" pos="4184640"/>
                <a:tab algn="l" pos="4641840"/>
                <a:tab algn="l" pos="5099040"/>
                <a:tab algn="l" pos="5556240"/>
                <a:tab algn="l" pos="6013440"/>
                <a:tab algn="l" pos="6470640"/>
                <a:tab algn="l" pos="6927840"/>
                <a:tab algn="l" pos="7385040"/>
                <a:tab algn="l" pos="7842240"/>
                <a:tab algn="l" pos="8299440"/>
                <a:tab algn="l" pos="8756640"/>
                <a:tab algn="l" pos="921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ay focu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527040"/>
                <a:tab algn="l" pos="984240"/>
                <a:tab algn="l" pos="1441440"/>
                <a:tab algn="l" pos="1898640"/>
                <a:tab algn="l" pos="2355840"/>
                <a:tab algn="l" pos="2813040"/>
                <a:tab algn="l" pos="3270240"/>
                <a:tab algn="l" pos="3727440"/>
                <a:tab algn="l" pos="4184640"/>
                <a:tab algn="l" pos="4641840"/>
                <a:tab algn="l" pos="5099040"/>
                <a:tab algn="l" pos="5556240"/>
                <a:tab algn="l" pos="6013440"/>
                <a:tab algn="l" pos="6470640"/>
                <a:tab algn="l" pos="6927840"/>
                <a:tab algn="l" pos="7385040"/>
                <a:tab algn="l" pos="7842240"/>
                <a:tab algn="l" pos="8299440"/>
                <a:tab algn="l" pos="8756640"/>
                <a:tab algn="l" pos="921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se version contr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527040"/>
                <a:tab algn="l" pos="984240"/>
                <a:tab algn="l" pos="1441440"/>
                <a:tab algn="l" pos="1898640"/>
                <a:tab algn="l" pos="2355840"/>
                <a:tab algn="l" pos="2813040"/>
                <a:tab algn="l" pos="3270240"/>
                <a:tab algn="l" pos="3727440"/>
                <a:tab algn="l" pos="4184640"/>
                <a:tab algn="l" pos="4641840"/>
                <a:tab algn="l" pos="5099040"/>
                <a:tab algn="l" pos="5556240"/>
                <a:tab algn="l" pos="6013440"/>
                <a:tab algn="l" pos="6470640"/>
                <a:tab algn="l" pos="6927840"/>
                <a:tab algn="l" pos="7385040"/>
                <a:tab algn="l" pos="7842240"/>
                <a:tab algn="l" pos="8299440"/>
                <a:tab algn="l" pos="8756640"/>
                <a:tab algn="l" pos="921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factored Code is Simp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527040"/>
                <a:tab algn="l" pos="984240"/>
                <a:tab algn="l" pos="1441440"/>
                <a:tab algn="l" pos="1898640"/>
                <a:tab algn="l" pos="2355840"/>
                <a:tab algn="l" pos="2813040"/>
                <a:tab algn="l" pos="3270240"/>
                <a:tab algn="l" pos="3727440"/>
                <a:tab algn="l" pos="4184640"/>
                <a:tab algn="l" pos="4641840"/>
                <a:tab algn="l" pos="5099040"/>
                <a:tab algn="l" pos="5556240"/>
                <a:tab algn="l" pos="6013440"/>
                <a:tab algn="l" pos="6470640"/>
                <a:tab algn="l" pos="6927840"/>
                <a:tab algn="l" pos="7385040"/>
                <a:tab algn="l" pos="7842240"/>
                <a:tab algn="l" pos="8299440"/>
                <a:tab algn="l" pos="8756640"/>
                <a:tab algn="l" pos="921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re are two kinds of applications, Perfect ones and Finished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Ok Ok, Shut Up and Show Us Co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3657240"/>
            <a:ext cx="42703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e Code Colum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My Company: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ttp://www.datacur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My Blog: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ttp://www.nodan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Recommended Reading: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Refactoring To Patterns - Joshua Kerievs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Head First Design Patterns – Freeman &amp; Free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Wilson</dc:creator>
  <dc:description/>
  <dc:language>en-US</dc:language>
  <cp:lastModifiedBy>Dan Wilson</cp:lastModifiedBy>
  <cp:revision>0</cp:revision>
  <dc:subject/>
  <dc:title/>
</cp:coreProperties>
</file>