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3360" cy="37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24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7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F540C-8B99-4D72-B81C-02B1C28026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A41-D625-4B9E-8E0F-B205C01DC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5232-E0F9-404E-B353-BE5648DC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3E54-4EC7-46F1-ADC3-B9091E78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47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26520" y="176832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47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26520" y="4366440"/>
            <a:ext cx="2915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229E-8D54-4A76-972D-2A600AEC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E6C-D0FE-42C9-9C78-3C2778E2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123-BBF1-4618-85BD-3B98A579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C14-DA8A-4713-957C-C4F37FF0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51B-A7CE-46AD-9669-D557EFF4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550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23F-F8C7-425D-AE42-6916B863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8F14-025E-4118-BDE3-874D9C1B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2960" y="436644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EEB-DE57-483B-B072-A7B46BB0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2960" y="1768320"/>
            <a:ext cx="441864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366440"/>
            <a:ext cx="9055080" cy="23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50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B32-50C2-46C8-8007-94C54576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5508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5508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81240" indent="-21276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12880" indent="-20160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44880" indent="-20340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44880" indent="-20340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44880" indent="-203400">
              <a:lnSpc>
                <a:spcPct val="5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an Wil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98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FMeetup Aug 28, 2008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320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2998D9-3863-46AE-BA81-4EF7E5CB7E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6819840"/>
            <a:ext cx="2838600" cy="72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9920" y="447840"/>
            <a:ext cx="907092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Refactoring to Object Oriented Programming in  ColdF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29920" y="2971440"/>
            <a:ext cx="9070920" cy="33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849240" indent="0" algn="ctr">
              <a:lnSpc>
                <a:spcPct val="93000"/>
              </a:lnSpc>
              <a:buNone/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 algn="ctr">
              <a:lnSpc>
                <a:spcPct val="93000"/>
              </a:lnSpc>
              <a:buNone/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n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 algn="ctr">
              <a:lnSpc>
                <a:spcPct val="93000"/>
              </a:lnSpc>
              <a:buNone/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 algn="ctr">
              <a:lnSpc>
                <a:spcPct val="93000"/>
              </a:lnSpc>
              <a:buNone/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ugust 28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0" algn="ctr">
              <a:lnSpc>
                <a:spcPct val="93000"/>
              </a:lnSpc>
              <a:buNone/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6:00 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del View Contro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VC provides layered separation in the 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siness objects handle busines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VC makes customizing the screens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VC prepares the way to support other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29200" y="2009880"/>
            <a:ext cx="4971960" cy="48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factory object creates other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nimizes Hard Coded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s it easy to trim dea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8862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25840" cy="50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ency Injection provides a way to add dependen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ependencies between objects are easily visible and underst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tension is achieved very eas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a blueprint of object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86400" y="137160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and objects provide a consistent interface for actions in the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1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eps the responsibilities of the object consistent and well def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s a great extension point for fu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95920" y="1828800"/>
            <a:ext cx="39052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53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 Access Objects provide a layer for managing the persistence la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th single and multiple table 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Re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ap conditional logic into reusable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ll application details into a configuratio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0120" y="4343400"/>
            <a:ext cx="877248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o Not Slavishly Apply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8915400" cy="56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d Procedural with 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ed at common patterns in 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ed at code Pre and Post Re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vered Gremlin avo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y Company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datacur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y Blog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nodan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commended Reading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Refactoring To Patterns - Joshua Kerievs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ad First Design Patterns – Freeman &amp; Freem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326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o get from Procedural Architecture to Object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10320" y="2057400"/>
            <a:ext cx="3219480" cy="3886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2057400"/>
            <a:ext cx="594360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54403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you would like to know how to migrate an existing procedurally programmed application into an object oriented one, grab a chair and sit for a whil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'll discuss some sensible guidelines designed to help you make incremental changes towards OO nirva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e'll also look at lots of code samples, we all like code samples, righ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is Dan Wi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5943600" cy="44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ldFusion Programmer since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 Managing Board of TACFU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log @ nodans.com, dzon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incipal Partner of DataCurl L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esenter at 360|Flex, CF.Objective(), User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urfer, Snowboarder, Volleyball play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oor Typist, Poorer Guitar Play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great steering wheel player... trust me!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035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the next 50 minute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9520" y="2743200"/>
            <a:ext cx="9601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and Contrast procedural/OO development (10 minut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view of Refactoring process (10 minut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factoring into Patterns some examples  (15 minut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al Thoughts (5 minut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estion and Answer (10 Minutes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the heck is Object Ori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494160" cy="49896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75360" y="2742840"/>
            <a:ext cx="442584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et O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tell me what to do or how to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6360"/>
                <a:tab algn="l" pos="493560"/>
                <a:tab algn="l" pos="950760"/>
                <a:tab algn="l" pos="1407960"/>
                <a:tab algn="l" pos="1865160"/>
                <a:tab algn="l" pos="2322360"/>
                <a:tab algn="l" pos="2779560"/>
                <a:tab algn="l" pos="3236760"/>
                <a:tab algn="l" pos="3693960"/>
                <a:tab algn="l" pos="4151160"/>
                <a:tab algn="l" pos="4608360"/>
                <a:tab algn="l" pos="5065560"/>
                <a:tab algn="l" pos="5522760"/>
                <a:tab algn="l" pos="5979960"/>
                <a:tab algn="l" pos="6437160"/>
                <a:tab algn="l" pos="6894360"/>
                <a:tab algn="l" pos="7351560"/>
                <a:tab algn="l" pos="7808760"/>
                <a:tab algn="l" pos="8265960"/>
                <a:tab algn="l" pos="87231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haviour ov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es OO code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371600"/>
            <a:ext cx="9601200" cy="1828800"/>
          </a:xfrm>
          <a:prstGeom prst="rect">
            <a:avLst/>
          </a:prstGeom>
          <a:solidFill>
            <a:srgbClr val="e6e6e6"/>
          </a:solidFill>
          <a:ln w="7308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572000"/>
            <a:ext cx="9601200" cy="2057400"/>
          </a:xfrm>
          <a:prstGeom prst="rect">
            <a:avLst/>
          </a:prstGeom>
          <a:solidFill>
            <a:srgbClr val="e6e6e6"/>
          </a:solidFill>
          <a:ln w="7308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3429000"/>
            <a:ext cx="927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c5000b"/>
                </a:solidFill>
                <a:latin typeface="Arial"/>
              </a:rPr>
              <a:t>V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581120"/>
            <a:ext cx="95997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cfif isNumeric( UserID )  AND structKeyExists( user, “isloggedin”) AND user.isLoggedIn IS “true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You are logged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cfels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t Logged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/cfif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49480" y="5029200"/>
            <a:ext cx="4137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cfif user.isLoggedIn()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You Are Logged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cfels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t Logged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87000"/>
              </a:lnSpc>
              <a:tabLst>
                <a:tab algn="l" pos="0"/>
                <a:tab algn="l" pos="849240"/>
                <a:tab algn="l" pos="1306440"/>
                <a:tab algn="l" pos="1763640"/>
                <a:tab algn="l" pos="2220840"/>
                <a:tab algn="l" pos="2678040"/>
                <a:tab algn="l" pos="3135240"/>
                <a:tab algn="l" pos="3592440"/>
                <a:tab algn="l" pos="4049640"/>
                <a:tab algn="l" pos="4506840"/>
                <a:tab algn="l" pos="4964040"/>
                <a:tab algn="l" pos="5421240"/>
                <a:tab algn="l" pos="5878440"/>
                <a:tab algn="l" pos="6335640"/>
                <a:tab algn="l" pos="6792840"/>
                <a:tab algn="l" pos="7250040"/>
                <a:tab algn="l" pos="7707240"/>
                <a:tab algn="l" pos="8164440"/>
                <a:tab algn="l" pos="8621640"/>
                <a:tab algn="l" pos="9078840"/>
                <a:tab algn="l" pos="9536040"/>
                <a:tab algn="l" pos="999324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/cfif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alyze refactoring your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the skills in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have you had problems in the code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uch refactoring can you do at a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anticipate your application changing over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isk vs 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two kinds of applications, Perfect ones and Finished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Use Version Control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rsion Control gives you a way out, if yo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ite off more than you can ch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ange your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26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ak something bi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using version control will hurt you sooner or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41148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on ColdFusion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2514240"/>
            <a:ext cx="4425840" cy="42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3280" indent="-309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ract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191280" y="1828800"/>
            <a:ext cx="3409920" cy="452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 Wilson</dc:creator>
  <dc:description/>
  <dc:language>en-US</dc:language>
  <cp:lastModifiedBy>Dan Wilson</cp:lastModifiedBy>
  <cp:revision>0</cp:revision>
  <dc:subject/>
  <dc:title/>
</cp:coreProperties>
</file>